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CB87-2C67-4C26-B4C2-4283DA9E4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86FF-4929-44E1-BBD2-F2317248C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0293-535F-4112-85B4-DEF6B31F6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BA63-D9A6-419B-BEED-0671F6084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97D9-BEEB-40BD-851C-C8277A744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00E9-6740-41A8-9E4F-79BAB66F3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5300-E78F-47F5-AFB9-3631893B7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D38A-C58C-4699-BC4A-3DACEE05D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77B6-08DF-45F8-A069-66260AEE2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35AC-78BA-4652-88F9-BFF03A49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DB44-AE4B-4D90-B1ED-743190D6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D7DD-D851-4AF5-B87A-9F88095E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A1DC6-23B7-4DB1-90C1-D3F9A4335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2T20:40:02Z</dcterms:created>
  <dc:creator>pombredanne</dc:creator>
  <dc:description/>
  <dc:language>en-US</dc:language>
  <cp:lastModifiedBy>pombredanne</cp:lastModifiedBy>
  <dcterms:modified xsi:type="dcterms:W3CDTF">2015-03-22T20:40:26Z</dcterms:modified>
  <cp:revision>1</cp:revision>
  <dc:subject/>
  <dc:title>test</dc:title>
</cp:coreProperties>
</file>