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265E-C38A-41E5-BA6F-003FE39DB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972E-19F6-4629-B212-460A40FA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277C-D2F4-44A0-802F-4CC0AB284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BC61-945A-482B-B589-9B198E1A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DFE5-5953-4984-A540-996ACD7B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B11A-82D2-4E6B-A410-A25EC466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4A6D-FA90-4481-A3CC-62C2978F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9C16-14A7-4255-9FC8-1BA843C4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5B6E-F513-499D-9F62-8B83AFCE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FA2D-34BF-4580-97F2-D16B5CB7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27A1-E797-45E9-A3C2-F0133CD7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6F1E-31B3-4137-8FC6-665B2A93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4AC0-B0F4-41C8-980F-3193D0B37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20:40:02Z</dcterms:created>
  <dc:creator>pombredanne</dc:creator>
  <dc:description/>
  <dc:language>en-US</dc:language>
  <cp:lastModifiedBy>pombredanne</cp:lastModifiedBy>
  <dcterms:modified xsi:type="dcterms:W3CDTF">2015-03-22T20:40:26Z</dcterms:modified>
  <cp:revision>1</cp:revision>
  <dc:subject/>
  <dc:title>test</dc:title>
</cp:coreProperties>
</file>