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00F5B-18D2-48DC-A6DC-7477B0836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015C1-9E55-47E6-9BA0-EA745DFD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11199-819B-41F2-9A2F-24446450D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83565-2B23-4C91-8DE7-692257D97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ACE4F-99AD-405B-8808-206DDB26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E5EA-B8C7-460D-A949-566F61F3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85D8E-4058-447B-8D12-348333A3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0FA47-DCF4-4C30-8393-0DAD7DEE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40E5A-4FD4-4345-AACE-0B783ED77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DEDB-AE7F-487F-95C9-B8C5D838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D410-063D-42C8-B269-DBEB237E4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CE98-D228-476C-8CD5-1703A20D9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8B9E-8866-4E66-9B8A-7F58066BF8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Calibri Light"/>
              </a:rPr>
              <a:t>ISCC Test Document</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orem ipsum dolor sit amet, </a:t>
            </a:r>
            <a:endParaRPr b="0" lang="en-US" sz="18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a:t>
            </a:r>
            <a:endParaRPr b="0" lang="en-US" sz="18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feld 2"/>
          <p:cNvSpPr/>
          <p:nvPr/>
        </p:nvSpPr>
        <p:spPr>
          <a:xfrm>
            <a:off x="671400" y="473040"/>
            <a:ext cx="11047680" cy="6762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in hendrerit in vulputate velit esse molestie consequat, vel illum dolore eu feugiat nulla facilisi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At accusam aliquyam diam diam dolore dolores duo eirmod eos erat, et nonumy sed tempor et et invidunt justo labore Stet clita ea et gubergren, kasd magna no rebum. sanctus sea sed takimata ut vero voluptua. est Lorem ipsum dolor sit amet. Lorem ipsum dolor sit amet, consetetur sadipscing elitr, sed diam nonumy eirmod tempor invidunt ut labore et dolore magna aliquyam erat.</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2"/>
          <p:cNvSpPr/>
          <p:nvPr/>
        </p:nvSpPr>
        <p:spPr>
          <a:xfrm>
            <a:off x="696960" y="890640"/>
            <a:ext cx="10798200" cy="5032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7T18:52:09Z</dcterms:created>
  <dc:creator>titusz</dc:creator>
  <dc:description>comment</dc:description>
  <cp:keywords>tag</cp:keywords>
  <dc:language>en-US</dc:language>
  <cp:lastModifiedBy>titusz</cp:lastModifiedBy>
  <dcterms:modified xsi:type="dcterms:W3CDTF">2021-02-17T18:59:41Z</dcterms:modified>
  <cp:revision>1</cp:revision>
  <dc:subject/>
  <dc:title>ISCC Test Document - Title from Metadata</dc:title>
</cp:coreProperties>
</file>