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DBAF-3730-48AB-9F5B-E021EFBB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653D-6C6B-44A6-944C-4BB8DF3C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712E-E10A-4D91-BB55-2A63C1CD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23A9-4C73-4FB5-A5D4-64702977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2C5B-C4B3-45CD-8B27-6E37F45E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3CA2-9E6D-4952-85A8-A7BCCC52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7317-D963-47B4-80B9-DEFA2A50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07DE-F4A4-4715-973A-43B6800D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1A1F-A4DA-4ACD-9563-AB051D27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E1FB-524B-4E1A-9766-AEE648D2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249E-C2C6-41CA-BFA3-2FE74093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82E6-4340-4ADD-B76A-573BB174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C1A6-11AC-4A5B-BB65-FC08BC232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20:40:02Z</dcterms:created>
  <dc:creator>pombredanne</dc:creator>
  <dc:description/>
  <dc:language>en-US</dc:language>
  <cp:lastModifiedBy>pombredanne</cp:lastModifiedBy>
  <dcterms:modified xsi:type="dcterms:W3CDTF">2015-03-22T20:40:26Z</dcterms:modified>
  <cp:revision>1</cp:revision>
  <dc:subject/>
  <dc:title>test</dc:title>
</cp:coreProperties>
</file>